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24A-CA16-458F-B55D-B31AE160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F57-DA6A-4C63-92F3-CA8BB19F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578-68B7-4B6D-A838-CF772DE9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0B2-2BCA-49F6-9717-68077D0A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8782-52A6-4189-B5DB-8863F47A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4D62-4B26-44B0-9984-A2731FEE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D689-EC0E-49FA-989E-B5D61525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3CF0-048C-4504-B9F3-C3A88628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7A0E-5496-4DA5-ABB4-478B072B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C327-6CFD-437B-96C2-F8C9075F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EB5B-A747-4244-85A0-F7AA691F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5F3-FB2C-44DE-9F39-321F4811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AA90-E627-4009-8AC3-854C5237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7DD7-4CC9-4D80-960C-D68A0B0D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F048-8D95-489C-A2C8-712FFDB2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3C8A-55A1-44E1-AAF6-E04E198B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0E65-BF10-4763-AD4F-F35A8D39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BB8-4205-41D8-8373-77CC67AA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97A-CA33-4FE4-AB01-62BEAD8A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FA1-3E63-41E6-9CB4-20A33D16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CE28-3D69-4DB5-A4DF-046080BD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7D2A-4F8F-4413-B31F-B26D2D23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3DE-4872-4EB1-86A0-577CFC8B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ACE-B480-414F-A2CE-724FCB74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9D66-CA7F-42F9-A82C-B8D5F27C247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6554-7308-4230-93A9-C42EEE0A09E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ports.yahoo.com/nhl/players/3798" TargetMode="External"/><Relationship Id="rId2" Type="http://schemas.openxmlformats.org/officeDocument/2006/relationships/hyperlink" Target="http://www.whitehouse.gov/administration/president-obama" TargetMode="External"/><Relationship Id="rId3" Type="http://schemas.openxmlformats.org/officeDocument/2006/relationships/hyperlink" Target="http://en.wikipedia.org/wiki/Jack_Black" TargetMode="External"/><Relationship Id="rId4" Type="http://schemas.openxmlformats.org/officeDocument/2006/relationships/hyperlink" Target="http://en.wikipedia.org/wiki/Jack_Black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209680" y="1523880"/>
            <a:ext cx="472464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Les Gens Fameu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0" y="4419720"/>
            <a:ext cx="50292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r Tyler Kiliul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ahoma"/>
              </a:rPr>
              <a:t>Rencontrer Tuukka Ras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ukka Rask est 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é aux Pays-B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uukka habite en Massachuset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Il est un gagnant, rapide, et très talentueu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Il n'est pas faible; il est tr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  <a:ea typeface="Tahoma"/>
              </a:rPr>
              <a:t>ès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enthousias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81480" y="2133720"/>
            <a:ext cx="3330720" cy="3962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914720" y="4114440"/>
            <a:ext cx="3695400" cy="19810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       </a:t>
            </a:r>
            <a:r>
              <a:rPr b="1" lang="en-US" sz="4400" spc="-1" strike="noStrike">
                <a:solidFill>
                  <a:srgbClr val="663300"/>
                </a:solidFill>
                <a:latin typeface="Tahoma"/>
              </a:rPr>
              <a:t>Barack Oba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Tahoma"/>
              </a:rPr>
              <a:t>Barack Obama est de Hawaii, avec les parents de Kenya et Kans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Tahoma"/>
              </a:rPr>
              <a:t>Barack habite en Washington D.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Tahoma"/>
              </a:rPr>
              <a:t>Il est fort et intellig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Tahoma"/>
              </a:rPr>
              <a:t>Il n’est pas faible et stup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3016440" cy="4267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</a:t>
            </a:r>
            <a:r>
              <a:rPr b="1" lang="en-US" sz="4400" spc="-1" strike="noStrike">
                <a:solidFill>
                  <a:srgbClr val="0099cc"/>
                </a:solidFill>
                <a:latin typeface="Tahoma"/>
              </a:rPr>
              <a:t>Jack Blac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cob “Jack” Black est de Californ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ck Black est 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très talentueux et amusa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Il n’est pas petit et bl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14720" y="1981080"/>
            <a:ext cx="369540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08560" y="1905120"/>
            <a:ext cx="2793960" cy="419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-172260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15040" y="2362320"/>
            <a:ext cx="228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828800"/>
            <a:ext cx="86104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rci pour vote atten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rédits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sports.yahoo.com/nhl/players/379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whitehouse.gov/administration/president-obam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4"/>
              </a:rPr>
              <a:t>en.wikipedia.org/wiki/Jack_Bla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7:45:47Z</dcterms:created>
  <dc:creator>kiliulistyl</dc:creator>
  <dc:description/>
  <dc:language>en-US</dc:language>
  <cp:lastModifiedBy>kiliulistyl</cp:lastModifiedBy>
  <dcterms:modified xsi:type="dcterms:W3CDTF">2012-10-02T13:12:34Z</dcterms:modified>
  <cp:revision>10</cp:revision>
  <dc:subject/>
  <dc:title>Tyler </dc:title>
</cp:coreProperties>
</file>